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594-02F8-4882-850F-D34FD593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2FC-F653-400E-91F5-76EABD42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14B-6AEF-4EC1-893E-823AD6F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B5A-2FBB-4BE8-831D-EBF1B5B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CED-C23E-434A-B1AB-1D8A3D4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4C7-E58B-4101-A2AC-0608ED02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6B5-3682-4B3E-BC31-9A051F28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F48-3B60-487B-A6B7-15243D5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A96-BE04-428D-9694-2A35245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056-BD54-4E7D-873F-2EE4EAC8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182-E94D-4012-8233-BA16D4C9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013-F504-4CE0-AADC-8C620139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0285-3D83-43D1-BAC5-73528D4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25F3-EC46-4CA5-B700-F6D95D6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5C8-CCAA-48F5-BE4A-89717679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23D7-C816-4192-826D-1B4CDDCF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A785-578D-44A3-AA32-73C0BAE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1BDA-4FCA-4091-BC3B-E59DAE2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04FD-AE49-4F94-B05F-268617C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D509-B08E-420C-91FB-F35085B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8FA-3715-4981-8269-0F43B96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29F5-CC36-45A9-B01A-133C02F2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0184-A9B4-404E-8EA9-07646A4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73EC-5240-42C9-BEE3-4951E80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7D4-E1CB-4EEE-AD09-FC626C6C2EC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59DB-7FB9-4DEF-ADB9-F9FF08E1CE4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46784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а фармација 1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авање бр. 14</a:t>
            </a:r>
            <a:br>
              <a:rPr sz="5600"/>
            </a:br>
            <a:br>
              <a:rPr sz="56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фармацеу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омп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тације случ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ja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прим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у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ерапијск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ширином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фармацеут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треб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99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клиничк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фармакокинети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а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ле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левант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информације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ff00"/>
                </a:solidFill>
                <a:latin typeface="Arial"/>
              </a:rPr>
              <a:t>пације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елокуп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гледа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пречи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еш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реб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бсорб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трибуи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имини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дивидуал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рен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хте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ру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ућ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хте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еш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уко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зор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внотеж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одговори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кинетичк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аметр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упа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кодинам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ав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 фармакокинетичке информац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псорб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 интеракције лек-храна, лек-биљна супстанца, лек-лек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истрибуциј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клоспорин се 90% везује за протеине (липопротеини), такролимус 99% се везује за протеине плазме; сиролимус 92% везује за плазма проте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Елимина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ранспорт и метболизам укључен  цитохром П450 3А и П гликопротеин, на које утичу генетски други фактор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ма који примају јаке инхибиторе цитохром П450 3А и П гликопротеина потребно је смањити дозу лека или повећати дозни 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и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а ефикасност и токсичност зависе од постигнуте концентрације ле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шћи мониторинг је потребан код пацијената код којих је установљена промена фармакокинетичких параметара, као и у раном посттрансплантацион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рез код пацијената са оштећеном функцијом јетре, деце, као и код пацијената који узимају јаке ЦИП3А индукторе или инхиби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супресиви : циклоспорин, такролимус, сирол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динамски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икасност у корелацији са постигнутом концентрцијом лека , али са већом концентрацијом расте и ризик од примене лека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Р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чност која није у вези са концентрциј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,Т,С малигнитет, пост трансплат. лимфопролиферативне бол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ролимус и.в.: повећан ризик од анафилаксе, као и аритм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ролимус: анфилакс, дермтитис, ангиоедем, хиперсензитиван васкулитис, болестиплућа, периферни едем, бдоминлни бол, ртрлги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треб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уради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добијем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вештај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ека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лаборатор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14400" y="1295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Text Box 5"/>
          <p:cNvGrpSpPr/>
          <p:nvPr/>
        </p:nvGrpSpPr>
        <p:grpSpPr>
          <a:xfrm>
            <a:off x="426960" y="1073160"/>
            <a:ext cx="2297160" cy="907920"/>
            <a:chOff x="426960" y="1073160"/>
            <a:chExt cx="2297160" cy="907920"/>
          </a:xfrm>
        </p:grpSpPr>
        <p:pic>
          <p:nvPicPr>
            <p:cNvPr id="174" name="Text Box 5" descr=""/>
            <p:cNvPicPr/>
            <p:nvPr/>
          </p:nvPicPr>
          <p:blipFill>
            <a:blip r:embed="rId1"/>
            <a:stretch/>
          </p:blipFill>
          <p:spPr>
            <a:xfrm>
              <a:off x="426960" y="1073160"/>
              <a:ext cx="2297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33520" y="11430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е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Text Box 6"/>
          <p:cNvGrpSpPr/>
          <p:nvPr/>
        </p:nvGrpSpPr>
        <p:grpSpPr>
          <a:xfrm>
            <a:off x="1054080" y="1706400"/>
            <a:ext cx="2811600" cy="781200"/>
            <a:chOff x="1054080" y="1706400"/>
            <a:chExt cx="2811600" cy="781200"/>
          </a:xfrm>
        </p:grpSpPr>
        <p:pic>
          <p:nvPicPr>
            <p:cNvPr id="177" name="Text Box 6" descr=""/>
            <p:cNvPicPr/>
            <p:nvPr/>
          </p:nvPicPr>
          <p:blipFill>
            <a:blip r:embed="rId2"/>
            <a:stretch/>
          </p:blipFill>
          <p:spPr>
            <a:xfrm>
              <a:off x="1054080" y="1706400"/>
              <a:ext cx="28116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143000" y="17524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орак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зет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коректно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600" spc="-1" strike="noStrike">
                  <a:solidFill>
                    <a:srgbClr val="000099"/>
                  </a:solidFill>
                  <a:latin typeface="Arial"/>
                </a:rPr>
                <a:t>време</a:t>
              </a:r>
              <a:r>
                <a:rPr b="0" lang="sr-Latn-CS" sz="16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Text Box 7"/>
          <p:cNvGrpSpPr/>
          <p:nvPr/>
        </p:nvGrpSpPr>
        <p:grpSpPr>
          <a:xfrm>
            <a:off x="4237200" y="1987560"/>
            <a:ext cx="925200" cy="633240"/>
            <a:chOff x="4237200" y="1987560"/>
            <a:chExt cx="925200" cy="633240"/>
          </a:xfrm>
        </p:grpSpPr>
        <p:pic>
          <p:nvPicPr>
            <p:cNvPr id="180" name="Text Box 7" descr=""/>
            <p:cNvPicPr/>
            <p:nvPr/>
          </p:nvPicPr>
          <p:blipFill>
            <a:blip r:embed="rId3"/>
            <a:stretch/>
          </p:blipFill>
          <p:spPr>
            <a:xfrm>
              <a:off x="4237200" y="1987560"/>
              <a:ext cx="925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343400" y="2057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Text Box 8"/>
          <p:cNvGrpSpPr/>
          <p:nvPr/>
        </p:nvGrpSpPr>
        <p:grpSpPr>
          <a:xfrm>
            <a:off x="5376960" y="1305000"/>
            <a:ext cx="1689120" cy="633240"/>
            <a:chOff x="5376960" y="1305000"/>
            <a:chExt cx="1689120" cy="633240"/>
          </a:xfrm>
        </p:grpSpPr>
        <p:pic>
          <p:nvPicPr>
            <p:cNvPr id="183" name="Text Box 8" descr=""/>
            <p:cNvPicPr/>
            <p:nvPr/>
          </p:nvPicPr>
          <p:blipFill>
            <a:blip r:embed="rId4"/>
            <a:stretch/>
          </p:blipFill>
          <p:spPr>
            <a:xfrm>
              <a:off x="5376960" y="1305000"/>
              <a:ext cx="1689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486400" y="1371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Text Box 9"/>
          <p:cNvGrpSpPr/>
          <p:nvPr/>
        </p:nvGrpSpPr>
        <p:grpSpPr>
          <a:xfrm>
            <a:off x="2408400" y="2371680"/>
            <a:ext cx="925200" cy="633600"/>
            <a:chOff x="2408400" y="2371680"/>
            <a:chExt cx="925200" cy="633600"/>
          </a:xfrm>
        </p:grpSpPr>
        <p:pic>
          <p:nvPicPr>
            <p:cNvPr id="186" name="Text Box 9" descr=""/>
            <p:cNvPicPr/>
            <p:nvPr/>
          </p:nvPicPr>
          <p:blipFill>
            <a:blip r:embed="rId5"/>
            <a:stretch/>
          </p:blipFill>
          <p:spPr>
            <a:xfrm>
              <a:off x="2408400" y="2371680"/>
              <a:ext cx="925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514600" y="2438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Text Box 10"/>
          <p:cNvGrpSpPr/>
          <p:nvPr/>
        </p:nvGrpSpPr>
        <p:grpSpPr>
          <a:xfrm>
            <a:off x="195120" y="2828880"/>
            <a:ext cx="2603520" cy="907920"/>
            <a:chOff x="195120" y="2828880"/>
            <a:chExt cx="2603520" cy="907920"/>
          </a:xfrm>
        </p:grpSpPr>
        <p:pic>
          <p:nvPicPr>
            <p:cNvPr id="189" name="Text Box 10" descr=""/>
            <p:cNvPicPr/>
            <p:nvPr/>
          </p:nvPicPr>
          <p:blipFill>
            <a:blip r:embed="rId6"/>
            <a:stretch/>
          </p:blipFill>
          <p:spPr>
            <a:xfrm>
              <a:off x="195120" y="2828880"/>
              <a:ext cx="2603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04920" y="2895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нис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Text Box 13"/>
          <p:cNvGrpSpPr/>
          <p:nvPr/>
        </p:nvGrpSpPr>
        <p:grpSpPr>
          <a:xfrm>
            <a:off x="5383080" y="2530440"/>
            <a:ext cx="3359160" cy="596880"/>
            <a:chOff x="5383080" y="2530440"/>
            <a:chExt cx="3359160" cy="596880"/>
          </a:xfrm>
        </p:grpSpPr>
        <p:pic>
          <p:nvPicPr>
            <p:cNvPr id="192" name="Text Box 13" descr=""/>
            <p:cNvPicPr/>
            <p:nvPr/>
          </p:nvPicPr>
          <p:blipFill>
            <a:blip r:embed="rId7"/>
            <a:stretch/>
          </p:blipFill>
          <p:spPr>
            <a:xfrm>
              <a:off x="5383080" y="2530440"/>
              <a:ext cx="3359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486400" y="25909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Концентрација</a:t>
              </a:r>
              <a:r>
                <a:rPr b="1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превисо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Text Box 15"/>
          <p:cNvGrpSpPr/>
          <p:nvPr/>
        </p:nvGrpSpPr>
        <p:grpSpPr>
          <a:xfrm>
            <a:off x="384120" y="3614760"/>
            <a:ext cx="2035080" cy="938160"/>
            <a:chOff x="384120" y="3614760"/>
            <a:chExt cx="2035080" cy="938160"/>
          </a:xfrm>
        </p:grpSpPr>
        <p:pic>
          <p:nvPicPr>
            <p:cNvPr id="195" name="Text Box 15" descr=""/>
            <p:cNvPicPr/>
            <p:nvPr/>
          </p:nvPicPr>
          <p:blipFill>
            <a:blip r:embed="rId8"/>
            <a:stretch/>
          </p:blipFill>
          <p:spPr>
            <a:xfrm>
              <a:off x="384120" y="3614760"/>
              <a:ext cx="20350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57200" y="365760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равнотежном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стању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" name="Text Box 16"/>
          <p:cNvGrpSpPr/>
          <p:nvPr/>
        </p:nvGrpSpPr>
        <p:grpSpPr>
          <a:xfrm>
            <a:off x="426960" y="4352760"/>
            <a:ext cx="773280" cy="633600"/>
            <a:chOff x="426960" y="4352760"/>
            <a:chExt cx="773280" cy="633600"/>
          </a:xfrm>
        </p:grpSpPr>
        <p:pic>
          <p:nvPicPr>
            <p:cNvPr id="198" name="Text Box 16" descr=""/>
            <p:cNvPicPr/>
            <p:nvPr/>
          </p:nvPicPr>
          <p:blipFill>
            <a:blip r:embed="rId9"/>
            <a:stretch/>
          </p:blipFill>
          <p:spPr>
            <a:xfrm>
              <a:off x="426960" y="4352760"/>
              <a:ext cx="773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3520" y="4419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Text Box 17"/>
          <p:cNvGrpSpPr/>
          <p:nvPr/>
        </p:nvGrpSpPr>
        <p:grpSpPr>
          <a:xfrm>
            <a:off x="1566720" y="4352760"/>
            <a:ext cx="927360" cy="633600"/>
            <a:chOff x="1566720" y="4352760"/>
            <a:chExt cx="927360" cy="633600"/>
          </a:xfrm>
        </p:grpSpPr>
        <p:pic>
          <p:nvPicPr>
            <p:cNvPr id="201" name="Text Box 17" descr=""/>
            <p:cNvPicPr/>
            <p:nvPr/>
          </p:nvPicPr>
          <p:blipFill>
            <a:blip r:embed="rId10"/>
            <a:stretch/>
          </p:blipFill>
          <p:spPr>
            <a:xfrm>
              <a:off x="1566720" y="4352760"/>
              <a:ext cx="9273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676520" y="44197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" name="Text Box 18"/>
          <p:cNvGrpSpPr/>
          <p:nvPr/>
        </p:nvGrpSpPr>
        <p:grpSpPr>
          <a:xfrm>
            <a:off x="-55440" y="5065560"/>
            <a:ext cx="1330200" cy="1621080"/>
            <a:chOff x="-55440" y="5065560"/>
            <a:chExt cx="1330200" cy="1621080"/>
          </a:xfrm>
        </p:grpSpPr>
        <p:pic>
          <p:nvPicPr>
            <p:cNvPr id="204" name="Text Box 18" descr=""/>
            <p:cNvPicPr/>
            <p:nvPr/>
          </p:nvPicPr>
          <p:blipFill>
            <a:blip r:embed="rId11"/>
            <a:stretch/>
          </p:blipFill>
          <p:spPr>
            <a:xfrm>
              <a:off x="-55440" y="5065560"/>
              <a:ext cx="133020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5105520"/>
              <a:ext cx="121932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и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њ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внотежног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ста</a:t>
              </a:r>
              <a:r>
                <a:rPr b="0" lang="sr-CS" sz="1200" spc="-1" strike="noStrike">
                  <a:solidFill>
                    <a:srgbClr val="000099"/>
                  </a:solidFill>
                  <a:latin typeface="Arial"/>
                </a:rPr>
                <a:t>њ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" name="Text Box 19"/>
          <p:cNvGrpSpPr/>
          <p:nvPr/>
        </p:nvGrpSpPr>
        <p:grpSpPr>
          <a:xfrm>
            <a:off x="1908000" y="4834080"/>
            <a:ext cx="2035440" cy="701640"/>
            <a:chOff x="1908000" y="4834080"/>
            <a:chExt cx="2035440" cy="701640"/>
          </a:xfrm>
        </p:grpSpPr>
        <p:pic>
          <p:nvPicPr>
            <p:cNvPr id="207" name="Text Box 19" descr=""/>
            <p:cNvPicPr/>
            <p:nvPr/>
          </p:nvPicPr>
          <p:blipFill>
            <a:blip r:embed="rId12"/>
            <a:stretch/>
          </p:blipFill>
          <p:spPr>
            <a:xfrm>
              <a:off x="1908000" y="4834080"/>
              <a:ext cx="2035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981080" y="4876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је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постигнут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клинички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400" spc="-1" strike="noStrike">
                  <a:solidFill>
                    <a:srgbClr val="000099"/>
                  </a:solidFill>
                  <a:latin typeface="Arial"/>
                </a:rPr>
                <a:t>одговор</a:t>
              </a:r>
              <a:r>
                <a:rPr b="0" lang="sr-Latn-CS" sz="1400" spc="-1" strike="noStrike">
                  <a:solidFill>
                    <a:srgbClr val="000099"/>
                  </a:solidFill>
                  <a:latin typeface="Arial"/>
                </a:rPr>
                <a:t> ?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9" name="Text Box 20"/>
          <p:cNvGrpSpPr/>
          <p:nvPr/>
        </p:nvGrpSpPr>
        <p:grpSpPr>
          <a:xfrm>
            <a:off x="3548160" y="5492880"/>
            <a:ext cx="699840" cy="633240"/>
            <a:chOff x="3548160" y="5492880"/>
            <a:chExt cx="699840" cy="633240"/>
          </a:xfrm>
        </p:grpSpPr>
        <p:pic>
          <p:nvPicPr>
            <p:cNvPr id="210" name="Text Box 20" descr=""/>
            <p:cNvPicPr/>
            <p:nvPr/>
          </p:nvPicPr>
          <p:blipFill>
            <a:blip r:embed="rId13"/>
            <a:stretch/>
          </p:blipFill>
          <p:spPr>
            <a:xfrm>
              <a:off x="3548160" y="5492880"/>
              <a:ext cx="699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57600" y="5562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Text Box 21"/>
          <p:cNvGrpSpPr/>
          <p:nvPr/>
        </p:nvGrpSpPr>
        <p:grpSpPr>
          <a:xfrm>
            <a:off x="1646280" y="5340240"/>
            <a:ext cx="925560" cy="633600"/>
            <a:chOff x="1646280" y="5340240"/>
            <a:chExt cx="925560" cy="633600"/>
          </a:xfrm>
        </p:grpSpPr>
        <p:pic>
          <p:nvPicPr>
            <p:cNvPr id="213" name="Text Box 21" descr=""/>
            <p:cNvPicPr/>
            <p:nvPr/>
          </p:nvPicPr>
          <p:blipFill>
            <a:blip r:embed="rId14"/>
            <a:stretch/>
          </p:blipFill>
          <p:spPr>
            <a:xfrm>
              <a:off x="1646280" y="5340240"/>
              <a:ext cx="925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52480" y="5410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Text Box 22"/>
          <p:cNvGrpSpPr/>
          <p:nvPr/>
        </p:nvGrpSpPr>
        <p:grpSpPr>
          <a:xfrm>
            <a:off x="3828960" y="6211800"/>
            <a:ext cx="1103400" cy="792360"/>
            <a:chOff x="3828960" y="6211800"/>
            <a:chExt cx="1103400" cy="792360"/>
          </a:xfrm>
        </p:grpSpPr>
        <p:pic>
          <p:nvPicPr>
            <p:cNvPr id="216" name="Text Box 22" descr=""/>
            <p:cNvPicPr/>
            <p:nvPr/>
          </p:nvPicPr>
          <p:blipFill>
            <a:blip r:embed="rId15"/>
            <a:stretch/>
          </p:blipFill>
          <p:spPr>
            <a:xfrm>
              <a:off x="3828960" y="6211800"/>
              <a:ext cx="110340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886200" y="624852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8" name="Text Box 23"/>
          <p:cNvGrpSpPr/>
          <p:nvPr/>
        </p:nvGrpSpPr>
        <p:grpSpPr>
          <a:xfrm>
            <a:off x="1238400" y="5851440"/>
            <a:ext cx="2400120" cy="1281240"/>
            <a:chOff x="1238400" y="5851440"/>
            <a:chExt cx="2400120" cy="1281240"/>
          </a:xfrm>
        </p:grpSpPr>
        <p:pic>
          <p:nvPicPr>
            <p:cNvPr id="219" name="Text Box 23" descr=""/>
            <p:cNvPicPr/>
            <p:nvPr/>
          </p:nvPicPr>
          <p:blipFill>
            <a:blip r:embed="rId16"/>
            <a:stretch/>
          </p:blipFill>
          <p:spPr>
            <a:xfrm>
              <a:off x="1238400" y="5851440"/>
              <a:ext cx="24001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295280" y="5896080"/>
              <a:ext cx="228600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већати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нов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анализу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после</a:t>
              </a:r>
              <a:r>
                <a:rPr b="0" lang="sr-Latn-CS" sz="1200" spc="-1" strike="noStrike">
                  <a:solidFill>
                    <a:srgbClr val="000099"/>
                  </a:solidFill>
                  <a:latin typeface="Arial"/>
                </a:rPr>
                <a:t> 5 </a:t>
              </a:r>
              <a:r>
                <a:rPr b="0" lang="sr-RS" sz="1200" spc="-1" strike="noStrike">
                  <a:solidFill>
                    <a:srgbClr val="000099"/>
                  </a:solidFill>
                  <a:latin typeface="Arial"/>
                </a:rPr>
                <a:t>т</a:t>
              </a:r>
              <a:r>
                <a:rPr b="0" lang="sr-Latn-CS" sz="1200" spc="-1" strike="noStrike" baseline="-25000">
                  <a:solidFill>
                    <a:srgbClr val="000099"/>
                  </a:solidFill>
                  <a:latin typeface="Arial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24"/>
          <p:cNvSpPr/>
          <p:nvPr/>
        </p:nvSpPr>
        <p:spPr>
          <a:xfrm>
            <a:off x="6004080" y="30081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" name="Text Box 25"/>
          <p:cNvGrpSpPr/>
          <p:nvPr/>
        </p:nvGrpSpPr>
        <p:grpSpPr>
          <a:xfrm>
            <a:off x="5608800" y="3139920"/>
            <a:ext cx="2754000" cy="1146240"/>
            <a:chOff x="5608800" y="3139920"/>
            <a:chExt cx="2754000" cy="1146240"/>
          </a:xfrm>
        </p:grpSpPr>
        <p:pic>
          <p:nvPicPr>
            <p:cNvPr id="223" name="Text Box 25" descr=""/>
            <p:cNvPicPr/>
            <p:nvPr/>
          </p:nvPicPr>
          <p:blipFill>
            <a:blip r:embed="rId17"/>
            <a:stretch/>
          </p:blipFill>
          <p:spPr>
            <a:xfrm>
              <a:off x="5608800" y="3139920"/>
              <a:ext cx="275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715000" y="320040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л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ацијент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оказуј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знаке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токсичнос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Text Box 26"/>
          <p:cNvGrpSpPr/>
          <p:nvPr/>
        </p:nvGrpSpPr>
        <p:grpSpPr>
          <a:xfrm>
            <a:off x="5224320" y="4048200"/>
            <a:ext cx="1079640" cy="633240"/>
            <a:chOff x="5224320" y="4048200"/>
            <a:chExt cx="1079640" cy="633240"/>
          </a:xfrm>
        </p:grpSpPr>
        <p:pic>
          <p:nvPicPr>
            <p:cNvPr id="226" name="Text Box 26" descr=""/>
            <p:cNvPicPr/>
            <p:nvPr/>
          </p:nvPicPr>
          <p:blipFill>
            <a:blip r:embed="rId18"/>
            <a:stretch/>
          </p:blipFill>
          <p:spPr>
            <a:xfrm>
              <a:off x="5224320" y="4048200"/>
              <a:ext cx="10796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3412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н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" name="Text Box 27"/>
          <p:cNvGrpSpPr/>
          <p:nvPr/>
        </p:nvGrpSpPr>
        <p:grpSpPr>
          <a:xfrm>
            <a:off x="7284960" y="4048200"/>
            <a:ext cx="1230480" cy="633240"/>
            <a:chOff x="7284960" y="4048200"/>
            <a:chExt cx="1230480" cy="633240"/>
          </a:xfrm>
        </p:grpSpPr>
        <p:pic>
          <p:nvPicPr>
            <p:cNvPr id="229" name="Text Box 27" descr=""/>
            <p:cNvPicPr/>
            <p:nvPr/>
          </p:nvPicPr>
          <p:blipFill>
            <a:blip r:embed="rId19"/>
            <a:stretch/>
          </p:blipFill>
          <p:spPr>
            <a:xfrm>
              <a:off x="7284960" y="4048200"/>
              <a:ext cx="1230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391520" y="41148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99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Text Box 28"/>
          <p:cNvGrpSpPr/>
          <p:nvPr/>
        </p:nvGrpSpPr>
        <p:grpSpPr>
          <a:xfrm>
            <a:off x="4943520" y="4754520"/>
            <a:ext cx="1665360" cy="2127240"/>
            <a:chOff x="4943520" y="4754520"/>
            <a:chExt cx="1665360" cy="2127240"/>
          </a:xfrm>
        </p:grpSpPr>
        <p:pic>
          <p:nvPicPr>
            <p:cNvPr id="232" name="Text Box 28" descr=""/>
            <p:cNvPicPr/>
            <p:nvPr/>
          </p:nvPicPr>
          <p:blipFill>
            <a:blip r:embed="rId20"/>
            <a:stretch/>
          </p:blipFill>
          <p:spPr>
            <a:xfrm>
              <a:off x="4943520" y="4754520"/>
              <a:ext cx="1665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029200" y="4805280"/>
              <a:ext cx="1523880" cy="19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Редукова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ил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настави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започету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Прати</a:t>
              </a:r>
              <a:r>
                <a:rPr b="1" lang="sr-CS" sz="1600" spc="-1" strike="noStrike">
                  <a:solidFill>
                    <a:srgbClr val="000099"/>
                  </a:solidFill>
                  <a:latin typeface="Arial"/>
                </a:rPr>
                <a:t>ти</a:t>
              </a:r>
              <a:r>
                <a:rPr b="1" lang="sr-Latn-C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Text Box 29"/>
          <p:cNvGrpSpPr/>
          <p:nvPr/>
        </p:nvGrpSpPr>
        <p:grpSpPr>
          <a:xfrm>
            <a:off x="7211880" y="4664160"/>
            <a:ext cx="1683000" cy="1560600"/>
            <a:chOff x="7211880" y="4664160"/>
            <a:chExt cx="1683000" cy="1560600"/>
          </a:xfrm>
        </p:grpSpPr>
        <p:pic>
          <p:nvPicPr>
            <p:cNvPr id="235" name="Text Box 29" descr=""/>
            <p:cNvPicPr/>
            <p:nvPr/>
          </p:nvPicPr>
          <p:blipFill>
            <a:blip r:embed="rId21"/>
            <a:stretch/>
          </p:blipFill>
          <p:spPr>
            <a:xfrm>
              <a:off x="7211880" y="4664160"/>
              <a:ext cx="1683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15200" y="4724280"/>
              <a:ext cx="15238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ригова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дозу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Пратити</a:t>
              </a:r>
              <a:r>
                <a:rPr b="0" lang="sr-Latn-C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sr-RS" sz="1800" spc="-1" strike="noStrike">
                  <a:solidFill>
                    <a:srgbClr val="000099"/>
                  </a:solidFill>
                  <a:latin typeface="Arial"/>
                </a:rPr>
                <a:t>конц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" name="Line 30"/>
          <p:cNvSpPr/>
          <p:nvPr/>
        </p:nvSpPr>
        <p:spPr>
          <a:xfrm>
            <a:off x="1981080" y="16002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31"/>
          <p:cNvSpPr/>
          <p:nvPr/>
        </p:nvSpPr>
        <p:spPr>
          <a:xfrm>
            <a:off x="3886200" y="2209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32"/>
          <p:cNvSpPr/>
          <p:nvPr/>
        </p:nvSpPr>
        <p:spPr>
          <a:xfrm>
            <a:off x="510552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33"/>
          <p:cNvSpPr/>
          <p:nvPr/>
        </p:nvSpPr>
        <p:spPr>
          <a:xfrm>
            <a:off x="6019920" y="1752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34"/>
          <p:cNvSpPr/>
          <p:nvPr/>
        </p:nvSpPr>
        <p:spPr>
          <a:xfrm flipH="1">
            <a:off x="2743200" y="15238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35"/>
          <p:cNvSpPr/>
          <p:nvPr/>
        </p:nvSpPr>
        <p:spPr>
          <a:xfrm>
            <a:off x="2819520" y="236232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36"/>
          <p:cNvSpPr/>
          <p:nvPr/>
        </p:nvSpPr>
        <p:spPr>
          <a:xfrm flipH="1">
            <a:off x="1523880" y="2666880"/>
            <a:ext cx="9144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37"/>
          <p:cNvSpPr/>
          <p:nvPr/>
        </p:nvSpPr>
        <p:spPr>
          <a:xfrm>
            <a:off x="3429000" y="2666880"/>
            <a:ext cx="19810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38"/>
          <p:cNvSpPr/>
          <p:nvPr/>
        </p:nvSpPr>
        <p:spPr>
          <a:xfrm>
            <a:off x="1447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39"/>
          <p:cNvSpPr/>
          <p:nvPr/>
        </p:nvSpPr>
        <p:spPr>
          <a:xfrm flipH="1">
            <a:off x="761760" y="4191120"/>
            <a:ext cx="6094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40"/>
          <p:cNvSpPr/>
          <p:nvPr/>
        </p:nvSpPr>
        <p:spPr>
          <a:xfrm>
            <a:off x="1523880" y="41911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41"/>
          <p:cNvSpPr/>
          <p:nvPr/>
        </p:nvSpPr>
        <p:spPr>
          <a:xfrm>
            <a:off x="762120" y="48006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2514600" y="45720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3657600" y="5410080"/>
            <a:ext cx="1522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4038480" y="59436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2209680" y="5334120"/>
            <a:ext cx="7632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48"/>
          <p:cNvSpPr/>
          <p:nvPr/>
        </p:nvSpPr>
        <p:spPr>
          <a:xfrm>
            <a:off x="2133720" y="57150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49"/>
          <p:cNvSpPr/>
          <p:nvPr/>
        </p:nvSpPr>
        <p:spPr>
          <a:xfrm>
            <a:off x="7010280" y="29718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50"/>
          <p:cNvSpPr/>
          <p:nvPr/>
        </p:nvSpPr>
        <p:spPr>
          <a:xfrm flipH="1">
            <a:off x="6019920" y="388620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51"/>
          <p:cNvSpPr/>
          <p:nvPr/>
        </p:nvSpPr>
        <p:spPr>
          <a:xfrm>
            <a:off x="5715000" y="44956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7010280" y="3886200"/>
            <a:ext cx="8384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924680" y="44956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92"/>
          <p:cNvSpPr/>
          <p:nvPr/>
        </p:nvSpPr>
        <p:spPr>
          <a:xfrm flipV="1">
            <a:off x="6019920" y="1752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838188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тим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јефикасн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збег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ећ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вак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е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дноста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тврд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чигл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бољша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цедур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в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релациј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о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го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о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е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ндивидуал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центрација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т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ал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ск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дноставн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мерит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ерење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итис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нтихипертензив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важан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ТМЛ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ири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лифарм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Н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тврд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пис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ењ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њег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тимизац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г”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аспо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езбед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ређен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1752480"/>
            <a:ext cx="22096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00400" y="2819520"/>
            <a:ext cx="2209680" cy="114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птимална терапиј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200400" y="3886200"/>
            <a:ext cx="220968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терапијски ефекат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486400" y="2819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095880" y="2743200"/>
            <a:ext cx="2362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Терапијски</a:t>
            </a: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псе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80880" y="2895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ораст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ек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лазми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1"/>
          <p:cNvSpPr/>
          <p:nvPr/>
        </p:nvSpPr>
        <p:spPr>
          <a:xfrm flipV="1">
            <a:off x="2590920" y="19051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оје лекове се спроводи Т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T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1828800"/>
          <a:ext cx="8153280" cy="4411800"/>
        </p:xfrm>
        <a:graphic>
          <a:graphicData uri="http://schemas.openxmlformats.org/drawingml/2006/table">
            <a:tbl>
              <a:tblPr/>
              <a:tblGrid>
                <a:gridCol w="2057400"/>
                <a:gridCol w="2971800"/>
                <a:gridCol w="3124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pijska gru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a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kovi za lečenje kardiovaskularnih bole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gok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gestivna bolest srca, aritm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8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bio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minoglikozidi (gentamic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kterijske infekcije rezistentne na manje toksične antibiot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iepi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bamazepi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obarbit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nitoin, valpr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pilep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nhodilat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ofi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ma, hronična opstruktivna bolest pluća (COP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уносупреси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клоспорин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ролим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олим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венција одбацивања трансплантираних орга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iholept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ij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re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псез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-2 ng/ml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тамиц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0 mg/l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ок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5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м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6 -1,4 mEq/l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т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5 mg/l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фил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ба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40 m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у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армацеут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г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Content Placeholder 1025"/>
          <p:cNvGrpSpPr/>
          <p:nvPr/>
        </p:nvGrpSpPr>
        <p:grpSpPr>
          <a:xfrm>
            <a:off x="2478240" y="1828800"/>
            <a:ext cx="4265280" cy="4037760"/>
            <a:chOff x="2478240" y="1828800"/>
            <a:chExt cx="4265280" cy="4037760"/>
          </a:xfrm>
        </p:grpSpPr>
        <p:sp>
          <p:nvSpPr>
            <p:cNvPr id="148" name="_s1028"/>
            <p:cNvSpPr/>
            <p:nvPr/>
          </p:nvSpPr>
          <p:spPr>
            <a:xfrm>
              <a:off x="3160800" y="182880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 rot="5400000">
              <a:off x="3920400" y="2397240"/>
              <a:ext cx="2745720" cy="290052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520"/>
                <a:gd name="textAreaBottom" fmla="*/ 2900520 h 290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 rot="10800000">
              <a:off x="3160800" y="3120840"/>
              <a:ext cx="2900160" cy="274572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 rot="16200000">
              <a:off x="2555280" y="2397240"/>
              <a:ext cx="2745720" cy="2900160"/>
            </a:xfrm>
            <a:custGeom>
              <a:avLst/>
              <a:gdLst>
                <a:gd name="textAreaLeft" fmla="*/ 0 w 2745720"/>
                <a:gd name="textAreaRight" fmla="*/ 2746080 w 2745720"/>
                <a:gd name="textAreaTop" fmla="*/ 0 h 2900160"/>
                <a:gd name="textAreaBottom" fmla="*/ 2900520 h 29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>
              <a:off x="5381640" y="2081160"/>
              <a:ext cx="109224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ТЕРАПИЈЕ 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МПЛЕМЕНТАЦИЈ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ЗМ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2746440" y="45774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АЋЕЊ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ИСХОДА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ЛЕЧЕЊ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2744640" y="208260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ДЕТАЉ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ЦЕ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Comic Sans MS"/>
                </a:rPr>
                <a:t>ПРОБЛЕМ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_s1035"/>
            <p:cNvSpPr/>
            <p:nvPr/>
          </p:nvSpPr>
          <p:spPr>
            <a:xfrm>
              <a:off x="5381640" y="4575960"/>
              <a:ext cx="10922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ТЕРАПИЈСК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ff0000"/>
                  </a:solidFill>
                  <a:latin typeface="Comic Sans MS"/>
                </a:rPr>
                <a:t>МОНИТОРИНГ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59:25Z</dcterms:modified>
  <cp:revision>41</cp:revision>
  <dc:subject/>
  <dc:title>Развој фармацеутске делатности</dc:title>
</cp:coreProperties>
</file>